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26A-CF14-44BD-97B8-FDF6235C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0B4-DA01-41C3-8A95-AED0263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D71-F20E-4541-AF38-FEFF4079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1B9-9864-4042-8D45-3DDE08EC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6C8-7839-436D-8753-E643816A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B2E-D56C-4D42-B9C9-3F73D071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AB4-FA1E-42AE-9B79-5B5B6140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24C-34CE-4646-A7A0-51849B0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9E1-82F5-4335-A5A3-52E558D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7BC-FE6A-4A21-8AA6-05FB11B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64F-9698-4B71-92CD-FD25538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285-ABDA-4D43-854F-8647347E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9F6-AF8F-446D-BF48-3841F5C99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19:23Z</dcterms:created>
  <dc:creator>Stefan.Harroo</dc:creator>
  <dc:description>© 2001 SchoolKiT.com Inc.
This template is a component of the SchoolKiT Digital Resource Library. You may only store this component on your computer and / or use it if you have a current subscription to SchoolKiT.com that includes access and license to this particular component, or if this component was made available to you on a SchoolKiT Startup CD. For more information visit: www.SchoolKiT.com</dc:description>
  <dc:language>en-US</dc:language>
  <cp:lastModifiedBy>Stefan.Harroo</cp:lastModifiedBy>
  <dcterms:modified xsi:type="dcterms:W3CDTF">2005-03-09T21:19:59Z</dcterms:modified>
  <cp:revision>1</cp:revision>
  <dc:subject>SchoolKiT.com Inc.</dc:subject>
  <dc:title>Slide 1</dc:title>
</cp:coreProperties>
</file>