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8C9-90C5-43BB-AD34-C4CC6AE0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B11-6945-40B3-BC10-1F6EE5F2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7FD-4FA0-488E-90DB-91B0AF4E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0F5-C92B-430E-83B2-187BE171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272-5B50-45C5-BF0A-D738797E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B77-9426-432B-A4E2-185C80F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07C-07AB-4632-A0D2-5E3A2A7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1A8-88F1-4CAE-8B83-E13A351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CC4-DA9C-4A54-8269-7E42B7AE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B70-0EA4-498A-B2F4-665D745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5BD-560A-4EE8-B85B-6E6E543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214-96DA-469E-AB62-ACDD396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4AB0-1FAB-4D0B-8F6D-E5C6FB65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614920"/>
            <a:ext cx="86868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1:19:23Z</dcterms:created>
  <dc:creator>Stefan.Harroo</dc:creator>
  <dc:description>© 2001 SchoolKiT.com Inc.
This template is a component of the SchoolKiT Digital Resource Library. You may only store this component on your computer and / or use it if you have a current subscription to SchoolKiT.com that includes access and license to this particular component, or if this component was made available to you on a SchoolKiT Startup CD. For more information visit: www.SchoolKiT.com</dc:description>
  <dc:language>en-US</dc:language>
  <cp:lastModifiedBy>Stefan.Harroo</cp:lastModifiedBy>
  <dcterms:modified xsi:type="dcterms:W3CDTF">2005-03-09T21:19:59Z</dcterms:modified>
  <cp:revision>1</cp:revision>
  <dc:subject>SchoolKiT.com Inc.</dc:subject>
  <dc:title>Slide 1</dc:title>
</cp:coreProperties>
</file>