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6D7E-6FDF-4FFB-85D1-77E41DCAC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DBAA-DEB5-4BE7-9FF6-05BD6AA2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877B-E669-4053-8923-4F9953DF7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27C3-D753-4B29-89B1-C7A417970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8590-B32D-46DB-9C02-A4AE20FE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6078-1C7C-4986-9090-227731C5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BC0E-43A2-4FF9-AD2D-099BA604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EDE6-6B37-4C22-BB21-FB1EBE59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D5EB-BEAF-4B5F-B876-ED2D3E62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EB46-0459-4AE1-8A91-DBABFA74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C21A-6458-41C9-ACB6-6D3DEF36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FD00-7662-4669-906A-BC8C44F8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2825-9423-4FD8-981A-4A196BE38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5614920"/>
            <a:ext cx="86868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he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5614920"/>
            <a:ext cx="86868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he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5614920"/>
            <a:ext cx="86868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he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8600" y="5614920"/>
            <a:ext cx="86868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he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" y="5614920"/>
            <a:ext cx="86868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he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5614920"/>
            <a:ext cx="86868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he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" y="5614920"/>
            <a:ext cx="86868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he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8600" y="5614920"/>
            <a:ext cx="86868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he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8600" y="5614920"/>
            <a:ext cx="86868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he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9T21:19:23Z</dcterms:created>
  <dc:creator>Stefan.Harroo</dc:creator>
  <dc:description>© 2001 SchoolKiT.com Inc.
This template is a component of the SchoolKiT Digital Resource Library. You may only store this component on your computer and / or use it if you have a current subscription to SchoolKiT.com that includes access and license to this particular component, or if this component was made available to you on a SchoolKiT Startup CD. For more information visit: www.SchoolKiT.com</dc:description>
  <dc:language>en-US</dc:language>
  <cp:lastModifiedBy>Stefan.Harroo</cp:lastModifiedBy>
  <dcterms:modified xsi:type="dcterms:W3CDTF">2005-03-09T21:19:59Z</dcterms:modified>
  <cp:revision>1</cp:revision>
  <dc:subject>SchoolKiT.com Inc.</dc:subject>
  <dc:title>Slide 1</dc:title>
</cp:coreProperties>
</file>