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E933-8BAC-4461-BBCB-DF77BFA0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DCA2-90F8-4CF0-99B7-6204769C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C915-9C25-4A4C-A1F4-FC517AA4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9B4-CDC3-4849-9622-CE5FEE7B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B201-55A7-4E43-93EF-9145A4AB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B521-41D3-4F98-BBD0-46C2164C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0D3-0E2F-464C-9999-81A31AD2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2F79-A3A4-4DFC-958F-C99AE409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4D1F-E159-490C-A2E6-832D7981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6059-6650-4FFA-9E67-C43985C3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8C3E-335F-4BBE-8F6D-18D53738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FA49-3E68-4AC1-9FCC-EB37CE04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033A-60AB-4497-8C18-3B2B71DA1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21:19:23Z</dcterms:created>
  <dc:creator>Stefan.Harroo</dc:creator>
  <dc:description>© 2001 SchoolKiT.com Inc.
This template is a component of the SchoolKiT Digital Resource Library. You may only store this component on your computer and / or use it if you have a current subscription to SchoolKiT.com that includes access and license to this particular component, or if this component was made available to you on a SchoolKiT Startup CD. For more information visit: www.SchoolKiT.com</dc:description>
  <dc:language>en-US</dc:language>
  <cp:lastModifiedBy>Stefan.Harroo</cp:lastModifiedBy>
  <dcterms:modified xsi:type="dcterms:W3CDTF">2005-03-09T21:19:59Z</dcterms:modified>
  <cp:revision>1</cp:revision>
  <dc:subject>SchoolKiT.com Inc.</dc:subject>
  <dc:title>Slide 1</dc:title>
</cp:coreProperties>
</file>