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A496-18A5-481E-B144-5EFEB270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D1FC-E5FF-4C91-853D-66C43983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68FE-CD19-451C-A181-25E8B453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C826-F9C1-405C-9947-DD091AB6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6C68-79CC-4FFA-9E55-CEFCFF24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895A-7C6B-4D4B-8354-799528B9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AEB0-F63C-4A90-B961-AD59A920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3558-1C2D-4644-8EBA-E456073C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5904-5FCD-48DC-97AA-832C2443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CDFE-FC44-4CD9-B9E8-F2BD888C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5A3C-C12E-4243-97C7-23A227FB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164D-7F81-4DC8-9A4C-F2488080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D8B8-9AD1-4BA4-9B5C-4870957D2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21:19:23Z</dcterms:created>
  <dc:creator>Stefan.Harroo</dc:creator>
  <dc:description>© 2001 SchoolKiT.com Inc.
This template is a component of the SchoolKiT Digital Resource Library. You may only store this component on your computer and / or use it if you have a current subscription to SchoolKiT.com that includes access and license to this particular component, or if this component was made available to you on a SchoolKiT Startup CD. For more information visit: www.SchoolKiT.com</dc:description>
  <dc:language>en-US</dc:language>
  <cp:lastModifiedBy>Stefan.Harroo</cp:lastModifiedBy>
  <dcterms:modified xsi:type="dcterms:W3CDTF">2005-03-09T21:19:59Z</dcterms:modified>
  <cp:revision>1</cp:revision>
  <dc:subject>SchoolKiT.com Inc.</dc:subject>
  <dc:title>Slide 1</dc:title>
</cp:coreProperties>
</file>